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9E6-93D9-4EC9-9889-DEF2E5D3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386-9E47-461D-8E1C-7B7BA50C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F5CF0-5BF1-4795-A168-2C141FC4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0B89C-8890-4C89-9274-7585F1BD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03C49-2D63-46A9-A8F8-FF14A648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A7D4D-21F3-4E41-990A-CBC486E2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8DBF1-5C98-4428-8092-72EFB2D8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DE7E5-2F1D-4CEA-8B32-19D7EC9D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A9528-5085-4A0E-A451-884C6880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F47F1-E7CA-41AC-896A-9A72F7BB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2A59B5-125A-48C3-8391-4A403B24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11678-31CB-4331-82E6-E6B07940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066-2080-45AA-9235-F3D25353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24284-B53F-4BF7-BD48-86B08B3C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31198-C972-47E8-902E-F72DFA9B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E2556-8A94-4FC1-951A-58BE84F4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E2E0C-2389-4DAB-BAF9-846C9EF2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3B50B-CAB9-43D3-822B-39C42AC2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F4C01-14EC-401B-BD5B-62FB5411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853EB-B3FA-41CE-AA4C-960DC565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3C273-64B9-4B79-96C0-002A9A88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B99A5-7F2F-47BA-9638-7A879029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09919-08F5-4EA3-B571-C9478C0E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7B7E-C765-454E-83C0-E07CE355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D764E-6FC1-441B-8807-51D684EC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9DF41-2561-482B-B37C-DD701A0C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FC999-4A10-4A0C-9402-CCA9807E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FFDE6-5363-403A-8BA7-8CB1AA84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D51F3-0C6F-41B8-B151-121A837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A1FC6-155B-4E01-8C36-D414CB04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1193D-1769-487D-83C3-392ED677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AB711-BBFB-4951-945F-4AEE26D8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6240F-43B0-42BE-9CE6-193BFE3F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1AD4A-132E-46DF-A756-9C3C4FF3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A05A-809E-444C-B0A2-7F6A6D03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5DD36-A8AB-4C41-A824-17839D70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922BA-B6E9-4410-98DB-E3D2EDD0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69097-D167-4150-909C-E4D3B4935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916A6-0CED-4992-B90F-436FC06F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9109B-339B-4D05-BF55-084F4672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3CA55-F7C4-4B20-8B26-25D773F3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52914-3D5A-4057-90BC-9BC696EF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4A577-CD24-4269-AA0D-65F2D187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061A0-56EF-4810-A74C-3DDDDD37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CE487-22B3-47D0-A725-60AE2DD7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9C1-68C2-42E7-9866-86F7EF4E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244F6-3CC4-47A2-B590-7D7B5FB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D99AF-2900-4D41-997A-6F6AB539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57586-DBC9-4605-B386-01309161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2CF0E-AC78-4A79-9764-D101373C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5B3DC-1725-4CF6-84B3-E1AFE7AF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BA0EF-FF92-49F7-92BE-36C0FE4C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244C7-D3E4-476B-8DC2-2DD3B7F0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9644E-5F38-4DEC-B3C5-95063ED7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39DAEA-6563-4D9A-9D3A-D01B0B1E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6FF57-6F6D-43B3-B94B-DE45F97B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49F7-113A-45D4-A19F-C4BA766F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EA211-4B56-48A0-BECD-3F02452F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0ECE1-F0B4-43BA-A6E0-2EEA5206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AF4B9-834E-4568-84FA-0215A9EB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73548-6541-46F0-AE68-E63B924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974E4-EE77-4BAA-BCC9-7376940D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1668B-0C06-4192-A305-D6D83D62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E98A5-2E36-4170-ABA3-DA005EF4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152684-8CAB-421F-8BB5-248C7534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5DC99-15B1-4DCC-886E-A98D347F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E2D80E-71D9-4F31-A816-80B2EFB8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8649-4ABD-4AA2-B9AA-BD27C5E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97543-1B2F-4E9B-A67E-72343E7F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7C5A0A-A9F3-4AB9-8685-23825BD3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60664-39AC-411E-8986-D168D551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DD250-BFD6-447E-9594-703D9770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EDC4AB-8709-4FCE-B947-3D7FC1B9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A16FE-F545-441B-80BB-D1823D8D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BA6FC-8BD0-40C6-8EF9-AF5F2026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7F520-A482-4D35-8687-F96424B9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9A232-1438-446E-B816-9A366A42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78317A-C06C-4C07-AC47-1AB72034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1A0C-A814-4E8A-B856-05D92270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0E8975-4BA4-429E-87CA-2522D591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C0466-33A9-4013-90C4-BAEC112D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227B9-C4C8-4087-8D32-57C8DE2F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DD928B-9DE5-4075-B702-0D43C017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51D937-9646-432E-BBBC-5DA73AAF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B9E806-9BF6-4A1F-82D8-BA5CC489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A2B613-E911-4FEA-9FC8-32DC669A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DF0380-749B-4B4A-9C5B-E274292D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7EFBAF-DDFF-43EB-881F-0C8894E6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177BB2-ADF0-4163-9805-5848D7D5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CCA9-7AFF-46AB-9FEE-CBB05733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7E977-A770-4C94-99E6-D818672E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321CAB-B2C8-4CE5-B742-8E5F65E9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7EF4F-6B3E-4FC1-BA15-77ED851C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9D816-D085-4362-9F45-63F13432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858D2-2C03-47D5-A498-C9650F20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02CD6F-BEB8-40D3-8510-9CAB4745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FE9C91-5535-4AFB-B74F-0BD55CA3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AFF7A-A917-4FF7-A091-D5B2002E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DE66F8-DA39-4675-9B1B-4633F900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337D7D-FB0A-48DA-B82F-5365A14B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A177-15B7-4810-9996-3EED194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D93B6B-5ABA-410D-8575-9EF268B5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A0B59-3354-49D7-AE64-A02140D0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F41B8-C9F8-42EF-908C-A795578D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402745-8288-4451-A4ED-231FD1DA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42C02-03D2-4EBE-9A32-2FA544DF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E2F63E-EA25-41AF-92D6-BA0920F1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290FE2-D6E0-450B-8CEA-A42E5DD8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314565-0E76-4D3D-A56A-F07EBBA7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07D49-8CA4-4011-AB54-AA970967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9B8E0-ECAB-48A3-8F40-33CB4CA1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41A-CFB4-433D-B46A-D57CE291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E320-0BC7-4400-833E-5DFB8CD1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758BB-899E-47C1-B5BC-7A5A2798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B346F-E07F-43D5-BCA1-D145B02A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72EDF-8E6D-4EE2-A07A-0A89CC97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B9EB95-BAC0-413A-A215-67FEEFA4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BA88FA-93DA-4F79-9CFA-A2C84EFA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6E4FF2-0437-4D2E-9ECB-2127402DA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1885D-C020-4706-B9A4-BFCD6087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F404C1-6F9B-4F43-B9EF-E645D494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C2C56-7A31-4A4A-B924-E68DE4D7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3F284-E44C-4FDE-9E60-8313404B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5167-4887-457B-8F4B-6DEF580C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21AB90-290C-4D44-969E-A9752EA0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9FB4AD-86AD-4FAD-8723-83D53010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7C7BE-2E3A-4C5F-B836-AEE89412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6E7779-2A4C-4434-AD2B-852725D2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5230CF-1320-4CE4-8D44-34A59776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5C447-E9B3-4DDB-8F45-175366AA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A72AC3-E529-4207-B5EC-7B2B20C4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1A44B4-635A-4AE9-8468-A6FB466D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17B49-033A-49A9-8981-2C18D01C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80595-89CA-4A74-9E7F-9E472FE9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8B96-489C-463D-AC97-C736A49B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6A33C4-1672-454D-A984-6EE5999A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4F81D6-98B4-479C-B9CF-7D5A74D7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AEB100-F8FA-4842-AFC8-3A081810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70202D-3387-4D62-92D4-7B1111E0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25AADD-C3A2-424C-AF08-A7C225E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7580B-4375-4697-ACD3-9D686573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1D239E-05D7-4C13-B53D-5D68C3CA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64F354-483B-43B4-A643-DC6B5BE7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5323D9-18F8-42AB-9E41-F8C6D5E3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19F5E-E1EA-4115-8037-D136ABD2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7A41-BC65-4078-A4C8-7E29284C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77121B-3AD3-48EE-867E-76C0AACA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3A55D-1115-4C95-B1E3-14644D1E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0327E-BD8F-4727-B42C-76599B85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728A23-CE2B-478B-AC24-72B28480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9DC652-678A-475E-83B8-FC14D80A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8ACE36-647E-49DB-BB77-740574F3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401D53-C846-4564-979C-A5EEDD82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23EFA2-CCA7-49FD-AE5F-1EF24ADA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990EA-AB9D-41E7-B910-54191946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766E8D-1587-4F90-A992-949EED2B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2FF7-0C9C-40FC-8323-BAFAC74B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635B68-5F7F-41DD-9500-CDD68070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4588CB-DEF6-4B98-BBAE-B50C8430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00B851-DB19-413E-BD41-81985D6F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B6DEC9-F303-4CF6-B1BC-224D0494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09828-3CA4-4098-AA44-E8DC3766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CE3AC-D757-4977-8F69-400BC9F3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0E5DE6-6D87-44E4-8DEB-0EA8C569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77CE3F-319E-4FAA-8203-E4DA772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03CC03-7098-492C-911E-6761700C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5E78F2-6E40-4767-A24C-FF999B2F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4E52C-DD38-4B9E-ADDE-59A69AED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1CDF51-EDAD-4201-9A9A-0F70AB9B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8340D8-FEC8-45A5-A73E-AE8A872A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3A478F-1857-481B-A90E-DDBD6B1D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C5A7F4-59B9-4F60-9741-6E461054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FA9F9F-A4B6-4573-9101-64EAE795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0266E8-9DE5-40B0-BE4C-4DC7FCB9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1F10D8-9727-4299-9A93-7C719AD2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21480-BA59-4DDE-BBB0-AD2C24F1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2FDE91-5B96-4FD6-9B7D-8D6BF005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D201BD-E73A-4D0A-8486-1AC818C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5EBCE-582B-4CAA-ACBB-B85EDE41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8C0C12-F78B-444C-AAD8-7CEEA362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3E9430-A24C-4CDC-8B3E-569860B0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6473E8-4563-48CD-8D27-B41DA033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30DE31-21F6-470F-8909-12C6598E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4D9344-399F-4685-9500-FC3B88DC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573C34-39A3-46DB-9D99-ADEEC735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66C703-98E0-4148-ADF1-18BA89C1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48D93B-CDCA-43A6-A846-B3715679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222801-23A4-4BCF-A876-4C45C1C0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F64FE2-D8DA-4749-9540-686B390F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A8EA6-D098-43E4-8ABE-C5B8AB53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6895D3-7412-4858-86D1-2EFB1B4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D366F7-5FE9-4DE6-81FF-7EC0E64B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F739FC-EC65-48BB-A174-B4FAE57D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D27042-FD3E-48F7-BC07-74987A21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EC600E-A8A9-4710-B238-FB4053FB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EC69EA-5F13-45B9-ABF8-84336E69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FFCC5C-BC6C-4E86-BA2D-B43C217F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20A705-CECE-4283-9E5F-CB5594D6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18C51D-0862-4C3A-9E97-E5E1CC2A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C85CDA-B477-474A-B14F-1CA14EA0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F641-8564-4A08-8585-691B37B1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527C03-6BA3-4F12-A35D-E868E30D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31BCFC-38AF-4BBF-9AEB-0FA806A5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C0C487-DF27-4C91-88A7-14FAEC7F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B102EE-603E-4C9F-A62E-CB3B9E94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F210D3-3E6B-4B73-834A-3D3F3957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E3C628-00B3-4F47-BA72-41CE7340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3BD5E0-ECD9-49C0-B939-2B7C99E3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574904-A050-44CF-9F73-D4E86715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4F4D1F-B878-4A03-B7EA-06BD84DD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9BDF20-6D50-4746-887C-9E9DA3AF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2822-CE38-4F81-A209-7827FFA4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B742A2-6A8E-47A4-9D52-0687AA2A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CADEF3-FE4C-4206-80C0-981AC697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3A8E1E-50FD-4DD2-9B55-5F2AFCC8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0D4066-E59F-4163-B4C2-FA67BC25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0E1310-3E0C-4211-A143-31604D1C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C913BC-0C8F-4523-8CB0-56F70842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3E9EBD-ABD7-4AE1-9354-20C35720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FFA448-C8AE-4BB9-8426-211AA4B8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89A772-BCCE-4C5A-9AAC-7B556CCC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1DB2C1-1E4D-4432-A18A-0090E2F8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834F-A8F8-4AB8-A26B-E70CC97C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BE99-09DF-4F5A-8006-F771F1A7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A5CBC2-EC30-4325-A55F-D547F856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B0BAD1-106E-455C-9900-05C1F288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0F47F3-6395-4ED5-BB2A-00378D86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3155CF-02E7-4F3E-986B-510812A2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C9D41F-CC06-47D2-8166-0BCA8CD9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30C446-4A9C-4C44-AEA5-C935022A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B72DBD-7519-4823-AC3C-77DA4FF6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ECFAFF-073C-411F-B524-DB1DF7E7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5442B5-3EC1-47FD-8541-82AFBE1E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766619-75EE-485B-A6A5-6F6876EF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073F7-33AD-478C-9FF1-BA5484BF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873F52-57F3-4EA6-9056-A170FC6E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0B1BB8-F95B-47B9-B9BD-067615D5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210157-AE84-4EFF-9AFD-C9800AA5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ED8D23-B3FC-4888-ABF6-C3AB867A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7E8A38-B969-4457-AD54-875EFF30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933CB1-71D5-439C-822B-B506B3D9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1C18F2-8CC3-4B48-81CE-87DB1363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4D91F3-D090-4A86-A3CC-03209636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A32EA7-6131-420E-B230-3D2B081D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CD305D-E6FF-4CFF-BE9C-1F4C1DB9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0954A-8283-46D7-A36E-45C794E2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E91CBA-C29E-46CE-AC80-E5D92BCE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CA1DE5-4A91-4456-811A-EFDF2F82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759AE2-38E3-4AB6-ABCA-A2F53BC0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431A64-4B86-419B-8B26-F1B7DAB6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89C9BE-B2B4-41A2-89D3-7276DA8B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68BF97-FEDF-4468-B724-066A9E58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570F7E-6F96-4188-99CB-B749A07E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799349-AD25-4615-8F8E-EE14A4F2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546042-2A76-4584-89AB-0CAAE8CA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DB9F15-876C-422F-9879-99767BC8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21EBF-9942-4A1F-B166-9553AC62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99DD83-752A-421A-9EF1-8C3D0952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ADD91F-7C58-4307-B451-5DA35595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8C6642-1D68-406E-A059-C027BE06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2E4205-FEE7-45DF-A9E7-983B6022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BE0F72-7E43-4400-97C4-CF96051E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859279-CD4B-4DCA-8C4A-6D557F0E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35BCB2-2668-4372-B20E-F082B873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A7CF64-74C9-4303-9065-0D8E9CA4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DCAE36-747E-4219-8621-72D86742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8D63DF-C8E2-4CFE-8201-9210DC7B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2278A-37D6-4722-A535-BE473BF8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C92ACF-9578-471E-9D9D-19138E73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9E92A0-1F52-49CB-9D75-994A8F52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430DD8-2FE6-40BF-BD0B-ED0C2A48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AC7A62-304E-4CA1-8DB8-8B6E2380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8AA76B-3899-4215-BC8B-4E48EEA5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719982-2072-412F-AF89-FCD54963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5C2EA6E-9D8E-45EB-84FE-DF756802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7C4116-0655-40B9-B01A-ED9F1AAC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43ABAE-B923-48E3-8053-B5531AA7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16791B-22A4-4102-BB2B-6BCE9DA5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371B-249E-45A6-AB8D-C2DC9D94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F17DC1-FFED-4C5C-BCA2-B909B3C77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E1C313-EDEE-48A3-8E7C-88F1BB43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32F2AD-B1EE-4DBC-8A5F-37A2E3EF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8E43F9-B6DB-4295-9715-0E16E4BE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781EA3-E476-40D9-BAD8-013134E9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B53215-7B19-4FC9-A1D6-51CCE8F8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80D8EC-2221-4F13-AAD8-315F6878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BA215D-4AC6-4B0B-98A0-4D7E7CB5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E431CD-B231-4156-8007-FD097C13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BACA52-AAA9-4634-84EB-A16D7314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86A6-EE24-4DE7-A1BF-C79AA55F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320FA6-AE32-4641-A218-454481DE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37D0E9-56C7-4B44-8598-09E3C692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F310AA-35E5-44F8-B2B4-65011A59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635B15-A944-4892-BE66-DD505630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97CB77-2CE6-4F0F-9FCA-258ECE15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24E184-AA72-475D-A735-2C37970C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05B794-0759-4396-B973-9CDAB97C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779F3B-0414-42F0-A841-CF31E291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0E6C24-D2C6-49AC-8588-05CB3C2A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BC817F-1475-4E01-BC3E-A4FAAB8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B6394-C141-46B1-9F46-A53885E4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7CE044-273B-4A7C-95FE-B9BB20D5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84A229-DA41-4487-9174-9B6233C6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B2B235-E5C7-4C85-BDED-1FC4C156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272E8-B098-4AAB-9E28-2093A9F9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2FC7-F8AC-44E7-AC43-6E110730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499-940E-43A3-B406-E80AA40F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31515-63E3-4666-852C-2E93A144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3D5EC-DA8F-4437-A749-8780A1BF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836EB-DF6A-4A85-A994-78E75CDB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62E1-D3D2-49E1-9DF0-BF40CBF2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C3837-B3AB-40D6-8FAD-E4EA92F7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F4CF-0EC8-40C8-B56B-B1477062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071D3-F50D-41CA-9254-F9C1B890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C7919-3255-44CF-95A5-24B80198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CF413-3570-424B-A25E-5AB72562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DD17F-EB3C-4EC9-987A-70E8292C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C35-D875-4C6E-8CC0-FC925237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0726E-D387-4AEA-A451-3466894F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784B0-B6FF-44EB-AED6-99D5D9FD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84453-9C9D-4D87-857E-D8E90E4C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9D4B3-EBD9-44D1-8B4F-266D908A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06F06-D713-48D5-B02B-F44983EA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BC501-3D26-4B0B-A09F-DBBF76A7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1A535-AD74-4681-BEA8-9900F5FF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AB710-A77D-45F3-AA50-490E624F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E6577-B54F-432E-804F-8A6ECF3B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B5786-CFBF-47AC-8A28-24960165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AE52-9DF8-4046-B90E-C4BB1496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47D71-809A-4EA0-AF28-0EC86F70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BDA77-EE2F-494C-816C-ED954D30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8AA2D-93B2-4CBD-A265-D0023F6D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B2CA-6B7E-4CC1-B014-F9D020FE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D92A1-DC94-4F95-BB93-244DA201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809BF-1177-4135-863F-936A1B86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CD1EE-5DBC-41FA-9461-DF6901C3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09CCB-B818-42B6-B864-2C3330D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4EE09-8E44-4A42-BCB0-F53AE5BE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A8FD5-C1E8-4F30-9D12-E8BE5DD1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6C2-8B65-46FE-9BC3-EDC19D59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FB148-1977-4AC4-B2E8-DE4C75BA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6D4D6-3E97-4B14-A7A8-E7F1BF53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0E340-C21B-46A6-94E8-BE9DA6E7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6EFC0-8C36-428A-83FB-46E4D11A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CC863-6146-4731-8746-3FF8616F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4E664-5C85-4C09-B7EB-184DAFB0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3C351-B29B-4EB0-AD70-C9C04E2D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8B430-0306-4662-9EE8-4EC45214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ACA1E-8D6D-447D-B8EE-BD598035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C29E6-8FAE-4751-A53E-FD24AAD0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CCB8-103A-43BC-868C-CD874D41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12D63-1DD3-4F83-8030-F0C3693F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A9ED8-FBF5-4F70-9E12-FF51BC4D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C8FB9-C85B-4F47-9694-1F93DDCB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7B953-4587-4C78-80B0-5F2BBE32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9CBC7-104A-48B7-90CB-58EB2A87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B2CEC-51EC-4E4F-98F5-F4ED2AC0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52095-B4FC-42F9-B3C2-729B82B9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7F0DE-81DD-4CEC-8EE8-2D5F8E34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B37A2-4B02-4E95-97B2-C5D8C01D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F2848-C0E4-43A9-932B-C34E65B2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989-C9F1-4709-8F76-48E9A53E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69B1E-B031-458B-B29D-C214012F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61383-BAFD-4CDB-A661-21358500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E99A1-B6ED-4A5B-92FC-7DEDD69C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DCE35-AFE0-497C-BB91-51B2041A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165A0-C3A5-46EA-996D-2FDCA27B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2E795-7EEF-4B44-85F0-AB06DE64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B7F74-EE18-4C8E-9375-D17A6DB8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B7F34-C6BE-4A4C-8DDA-A3533A32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3A99C-3B1B-4F69-812D-F1E6018E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0F450-EF00-48DB-B3EE-EF7340C9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0CDB-E3D4-4828-97A1-E8E5C800AB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D7DE-D6A1-4226-B4AB-4373C76BF6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FEA5-54AE-4D8A-B082-327F52B06D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4DD0-6EB5-49F0-914B-C1389A7B3F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9244-B769-4AB2-97C2-F088AD1C3F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60F5-59FC-49F9-A968-B9A11B03A0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D2D7-537E-4F33-B857-8ADF17630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93FC-5F65-4A36-9D85-15A13C720D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1953-4CF7-4AFE-82DC-9DF90E4F44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DF62-B8E8-4F90-AB22-AFB1CB4F91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4051-C3AB-4A68-8688-E7B82AADEE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78FA-B2D9-4EFB-9A3C-582C4D8662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3200-7335-48F5-9616-1CEFDAE769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F7AC-5A4E-43E0-A26D-D755BFA260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0A09-3931-4C0B-8118-CF6E96329B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D461-995D-4412-8AF1-05CE58FB6E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B4CC-B80A-45BD-A245-ED13F520FD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CFB5-5294-42D0-882A-ED1F81B56D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B901-6ABE-4E7E-A065-A440A6701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9E81-6F5D-4618-83E6-259FA9378C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EBD1-D4A9-4DDD-B54A-7ADAC533F0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9A3D-91DD-4F3A-BCB2-AD57ECA918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3959-B9A2-48D4-B6BB-39DE15264B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AF2-2B7A-45C4-9AC7-6D879494BE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0B4E-70A9-4988-B5FD-D0018882B7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7D5D-2CBF-4049-A8CC-BD3EDFA39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3568-52D1-441D-9E86-627C7A58C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0C93-ED28-432A-8BF6-087003946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F390-9DAF-4073-B523-DADEF3CC83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6FC0-9892-4C1C-8939-2C41E1B3D7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B991-1524-4789-BDF5-DCD1024185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8A46-090E-468E-BBEC-C3F28F3EA7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A60B-A794-4822-B665-2ADD02190E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EBB7-8B5B-405D-B84A-29CD55564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3E3E-E680-40C2-9C44-F2CE71DCFC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56B8-04CE-437D-BE3C-4F9BD25C9B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6361-787D-4A86-AAFE-C21EE29206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19E8-2E9F-4E0A-8626-EF45DE03B1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27D9-D4D6-4D9A-B565-1C810CEE17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B98D-1B3C-4B58-A689-D878E9713E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A95F-D292-45A7-B463-33667FAB67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3B7B-5D07-4D00-8FA4-9CB16F7595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834B-80E9-42D7-8D1F-EBAF56A47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5311-EE65-4281-ADE4-987D1710EE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3821-CE68-4646-AEE4-47694232A5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6901-DBE4-47E1-8AFC-19EC275114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F192-62EE-4022-B992-3170FA3DE5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A79E-647B-4AB0-9738-7F5B1414BA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4891-DF69-48D4-8A14-0756EBA425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C4FA-8598-4393-9D9A-B582421FD4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858000" cy="131436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1457280" y="3019320"/>
            <a:ext cx="6229440" cy="81936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6" descr=""/>
          <p:cNvPicPr/>
          <p:nvPr/>
        </p:nvPicPr>
        <p:blipFill>
          <a:blip r:embed="rId3"/>
          <a:stretch/>
        </p:blipFill>
        <p:spPr>
          <a:xfrm>
            <a:off x="122400" y="4130640"/>
            <a:ext cx="5495760" cy="261000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7"/>
          <p:cNvSpPr/>
          <p:nvPr/>
        </p:nvSpPr>
        <p:spPr>
          <a:xfrm>
            <a:off x="627120" y="5527800"/>
            <a:ext cx="4583160" cy="69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1735200" y="6402240"/>
            <a:ext cx="8031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图片 140289" descr=""/>
          <p:cNvPicPr/>
          <p:nvPr/>
        </p:nvPicPr>
        <p:blipFill>
          <a:blip r:embed="rId1"/>
          <a:stretch/>
        </p:blipFill>
        <p:spPr>
          <a:xfrm>
            <a:off x="719280" y="906480"/>
            <a:ext cx="5876640" cy="4638600"/>
          </a:xfrm>
          <a:prstGeom prst="rect">
            <a:avLst/>
          </a:prstGeom>
          <a:ln w="0">
            <a:noFill/>
          </a:ln>
        </p:spPr>
      </p:pic>
      <p:sp>
        <p:nvSpPr>
          <p:cNvPr id="1337" name="矩形 140290"/>
          <p:cNvSpPr/>
          <p:nvPr/>
        </p:nvSpPr>
        <p:spPr>
          <a:xfrm>
            <a:off x="625320" y="1787400"/>
            <a:ext cx="4921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1"/>
          <p:cNvSpPr/>
          <p:nvPr/>
        </p:nvSpPr>
        <p:spPr>
          <a:xfrm>
            <a:off x="790560" y="2281320"/>
            <a:ext cx="4921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2"/>
          <p:cNvSpPr/>
          <p:nvPr/>
        </p:nvSpPr>
        <p:spPr>
          <a:xfrm>
            <a:off x="482760" y="4162320"/>
            <a:ext cx="5506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3"/>
          <p:cNvSpPr/>
          <p:nvPr/>
        </p:nvSpPr>
        <p:spPr>
          <a:xfrm>
            <a:off x="1581120" y="4665600"/>
            <a:ext cx="3421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4"/>
          <p:cNvSpPr/>
          <p:nvPr/>
        </p:nvSpPr>
        <p:spPr>
          <a:xfrm>
            <a:off x="1622520" y="5180040"/>
            <a:ext cx="3421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图片 139265" descr=""/>
          <p:cNvPicPr/>
          <p:nvPr/>
        </p:nvPicPr>
        <p:blipFill>
          <a:blip r:embed="rId1"/>
          <a:stretch/>
        </p:blipFill>
        <p:spPr>
          <a:xfrm>
            <a:off x="716040" y="930240"/>
            <a:ext cx="5705280" cy="3143160"/>
          </a:xfrm>
          <a:prstGeom prst="rect">
            <a:avLst/>
          </a:prstGeom>
          <a:ln w="0">
            <a:noFill/>
          </a:ln>
        </p:spPr>
      </p:pic>
      <p:sp>
        <p:nvSpPr>
          <p:cNvPr id="1343" name="矩形 139266"/>
          <p:cNvSpPr/>
          <p:nvPr/>
        </p:nvSpPr>
        <p:spPr>
          <a:xfrm>
            <a:off x="544680" y="1757520"/>
            <a:ext cx="563076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9267"/>
          <p:cNvSpPr/>
          <p:nvPr/>
        </p:nvSpPr>
        <p:spPr>
          <a:xfrm>
            <a:off x="1849320" y="2660760"/>
            <a:ext cx="32259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8"/>
          <p:cNvSpPr/>
          <p:nvPr/>
        </p:nvSpPr>
        <p:spPr>
          <a:xfrm>
            <a:off x="1839960" y="3193920"/>
            <a:ext cx="3225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69"/>
          <p:cNvSpPr/>
          <p:nvPr/>
        </p:nvSpPr>
        <p:spPr>
          <a:xfrm>
            <a:off x="1819440" y="3676680"/>
            <a:ext cx="322560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图片 138241" descr=""/>
          <p:cNvPicPr/>
          <p:nvPr/>
        </p:nvPicPr>
        <p:blipFill>
          <a:blip r:embed="rId1"/>
          <a:stretch/>
        </p:blipFill>
        <p:spPr>
          <a:xfrm>
            <a:off x="158760" y="434880"/>
            <a:ext cx="7581960" cy="6419880"/>
          </a:xfrm>
          <a:prstGeom prst="rect">
            <a:avLst/>
          </a:prstGeom>
          <a:ln w="0">
            <a:noFill/>
          </a:ln>
        </p:spPr>
      </p:pic>
      <p:sp>
        <p:nvSpPr>
          <p:cNvPr id="1348" name="矩形 138242"/>
          <p:cNvSpPr/>
          <p:nvPr/>
        </p:nvSpPr>
        <p:spPr>
          <a:xfrm>
            <a:off x="142920" y="2076480"/>
            <a:ext cx="772632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8243"/>
          <p:cNvSpPr/>
          <p:nvPr/>
        </p:nvSpPr>
        <p:spPr>
          <a:xfrm>
            <a:off x="1006560" y="3000240"/>
            <a:ext cx="655488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8244"/>
          <p:cNvSpPr/>
          <p:nvPr/>
        </p:nvSpPr>
        <p:spPr>
          <a:xfrm>
            <a:off x="1201680" y="3832200"/>
            <a:ext cx="655488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5"/>
          <p:cNvSpPr/>
          <p:nvPr/>
        </p:nvSpPr>
        <p:spPr>
          <a:xfrm>
            <a:off x="1314360" y="4714920"/>
            <a:ext cx="6554880" cy="7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6"/>
          <p:cNvSpPr/>
          <p:nvPr/>
        </p:nvSpPr>
        <p:spPr>
          <a:xfrm>
            <a:off x="1346040" y="5608800"/>
            <a:ext cx="2979720" cy="76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7"/>
          <p:cNvSpPr/>
          <p:nvPr/>
        </p:nvSpPr>
        <p:spPr>
          <a:xfrm>
            <a:off x="1406520" y="6524640"/>
            <a:ext cx="72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37217" descr=""/>
          <p:cNvPicPr/>
          <p:nvPr/>
        </p:nvPicPr>
        <p:blipFill>
          <a:blip r:embed="rId1"/>
          <a:stretch/>
        </p:blipFill>
        <p:spPr>
          <a:xfrm>
            <a:off x="633240" y="912960"/>
            <a:ext cx="6963120" cy="2162160"/>
          </a:xfrm>
          <a:prstGeom prst="rect">
            <a:avLst/>
          </a:prstGeom>
          <a:ln w="0">
            <a:noFill/>
          </a:ln>
        </p:spPr>
      </p:pic>
      <p:sp>
        <p:nvSpPr>
          <p:cNvPr id="1355" name="矩形 137218"/>
          <p:cNvSpPr/>
          <p:nvPr/>
        </p:nvSpPr>
        <p:spPr>
          <a:xfrm>
            <a:off x="666720" y="1757520"/>
            <a:ext cx="6370560" cy="68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7219"/>
          <p:cNvSpPr/>
          <p:nvPr/>
        </p:nvSpPr>
        <p:spPr>
          <a:xfrm>
            <a:off x="1973160" y="2598840"/>
            <a:ext cx="131616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图片 136193" descr=""/>
          <p:cNvPicPr/>
          <p:nvPr/>
        </p:nvPicPr>
        <p:blipFill>
          <a:blip r:embed="rId1"/>
          <a:stretch/>
        </p:blipFill>
        <p:spPr>
          <a:xfrm>
            <a:off x="557280" y="795240"/>
            <a:ext cx="7724880" cy="5038920"/>
          </a:xfrm>
          <a:prstGeom prst="rect">
            <a:avLst/>
          </a:prstGeom>
          <a:ln w="0">
            <a:noFill/>
          </a:ln>
        </p:spPr>
      </p:pic>
      <p:sp>
        <p:nvSpPr>
          <p:cNvPr id="1358" name="矩形 136194"/>
          <p:cNvSpPr/>
          <p:nvPr/>
        </p:nvSpPr>
        <p:spPr>
          <a:xfrm>
            <a:off x="657360" y="2301840"/>
            <a:ext cx="717228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6195"/>
          <p:cNvSpPr/>
          <p:nvPr/>
        </p:nvSpPr>
        <p:spPr>
          <a:xfrm>
            <a:off x="781200" y="3124080"/>
            <a:ext cx="7172280" cy="6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6196"/>
          <p:cNvSpPr/>
          <p:nvPr/>
        </p:nvSpPr>
        <p:spPr>
          <a:xfrm>
            <a:off x="976320" y="4079880"/>
            <a:ext cx="717228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6197"/>
          <p:cNvSpPr/>
          <p:nvPr/>
        </p:nvSpPr>
        <p:spPr>
          <a:xfrm>
            <a:off x="1930320" y="4923000"/>
            <a:ext cx="3257640" cy="37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6198"/>
          <p:cNvSpPr/>
          <p:nvPr/>
        </p:nvSpPr>
        <p:spPr>
          <a:xfrm>
            <a:off x="1838160" y="5415120"/>
            <a:ext cx="3257640" cy="37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3" name="图片 135169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762680" cy="3029040"/>
          </a:xfrm>
          <a:prstGeom prst="rect">
            <a:avLst/>
          </a:prstGeom>
          <a:ln w="0">
            <a:noFill/>
          </a:ln>
        </p:spPr>
      </p:pic>
      <p:sp>
        <p:nvSpPr>
          <p:cNvPr id="1364" name="矩形 135170"/>
          <p:cNvSpPr/>
          <p:nvPr/>
        </p:nvSpPr>
        <p:spPr>
          <a:xfrm>
            <a:off x="770040" y="2744640"/>
            <a:ext cx="587844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5171"/>
          <p:cNvSpPr/>
          <p:nvPr/>
        </p:nvSpPr>
        <p:spPr>
          <a:xfrm>
            <a:off x="1982880" y="3637080"/>
            <a:ext cx="114120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134145" descr=""/>
          <p:cNvPicPr/>
          <p:nvPr/>
        </p:nvPicPr>
        <p:blipFill>
          <a:blip r:embed="rId1"/>
          <a:stretch/>
        </p:blipFill>
        <p:spPr>
          <a:xfrm>
            <a:off x="270000" y="947880"/>
            <a:ext cx="8096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3121" descr=""/>
          <p:cNvPicPr/>
          <p:nvPr/>
        </p:nvPicPr>
        <p:blipFill>
          <a:blip r:embed="rId1"/>
          <a:stretch/>
        </p:blipFill>
        <p:spPr>
          <a:xfrm>
            <a:off x="781200" y="855720"/>
            <a:ext cx="6972120" cy="456228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3122"/>
          <p:cNvSpPr/>
          <p:nvPr/>
        </p:nvSpPr>
        <p:spPr>
          <a:xfrm>
            <a:off x="770040" y="831960"/>
            <a:ext cx="60516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3123"/>
          <p:cNvSpPr/>
          <p:nvPr/>
        </p:nvSpPr>
        <p:spPr>
          <a:xfrm>
            <a:off x="719280" y="1714680"/>
            <a:ext cx="6051240" cy="73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3124"/>
          <p:cNvSpPr/>
          <p:nvPr/>
        </p:nvSpPr>
        <p:spPr>
          <a:xfrm>
            <a:off x="863640" y="2587680"/>
            <a:ext cx="60516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3125"/>
          <p:cNvSpPr/>
          <p:nvPr/>
        </p:nvSpPr>
        <p:spPr>
          <a:xfrm>
            <a:off x="965160" y="3492360"/>
            <a:ext cx="91440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3126"/>
          <p:cNvSpPr/>
          <p:nvPr/>
        </p:nvSpPr>
        <p:spPr>
          <a:xfrm>
            <a:off x="933480" y="3975120"/>
            <a:ext cx="68421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3127"/>
          <p:cNvSpPr/>
          <p:nvPr/>
        </p:nvSpPr>
        <p:spPr>
          <a:xfrm>
            <a:off x="901800" y="4519440"/>
            <a:ext cx="684216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3128"/>
          <p:cNvSpPr/>
          <p:nvPr/>
        </p:nvSpPr>
        <p:spPr>
          <a:xfrm>
            <a:off x="901800" y="4950000"/>
            <a:ext cx="684216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9:39:05Z</dcterms:modified>
  <cp:revision>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